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3B36C-7D75-4FA5-8AE8-D3CBD8E948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444-B9CD-4AF5-A304-4B867DDC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C81-B69D-4C07-9342-CD8F0D28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A5F-0523-4048-95B6-64447D7E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1E2-0E97-4BA2-B6A0-29A5B273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F2D-2D20-44FB-A6D6-E3ECA2C8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B2B-E428-4980-852A-98B89DD1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86D-4C08-4AD7-9412-38BFA5EE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1BB-BA29-48C7-80EE-6F6D6C43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BC5-E968-41A5-8417-25A193B8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055-3CC4-45F2-9809-C6799520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731-1AAA-4DA8-9DE8-5B0FCBA6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46D-FCA2-4727-93CC-BF5071D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62BAA-B8EF-4110-A4BE-6F01A6D091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20720" y="1979640"/>
            <a:ext cx="8280360" cy="270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endParaRPr b="0" lang="en-US" sz="1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endParaRPr b="0" lang="en-US" sz="1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20720" y="2886120"/>
            <a:ext cx="8459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RIMAVERA</a:t>
            </a:r>
            <a:endParaRPr b="0" lang="en-US" sz="1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246480" y="373212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-1566720"/>
            <a:ext cx="907092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Arial"/>
              </a:rPr>
              <a:t>A primavera chegará, mesmo que ninguém mais saiba seu nome, nem acredite no calendário, nem possua jardim para recebê-la. A inclinação do sol vai marcando outras sombras; e os habitantes da mata, essas criaturas naturais que ainda circulam pelo ar e pelo chão, começam a preparar sua vida para a primavera que che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3280" y="111240"/>
            <a:ext cx="9070920" cy="68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nos clarins que não ouvimos devem soar por dentro da terra, nesse mundo confidencial das raízes, — e arautos sutis acordarão as cores e os perfumes e a alegria de nascer, no espírito das f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á bosques de rododendros que eram verdes e já estão todos cor-de-rosa, como os palácios de Jeipur. Vozes novas de passarinhos começam a ensaiar as árias tradicionais de sua nação. Pequenas borboletas brancas e amarelas apressam-se pelos ares, — e certamente conversam: mas tão baixinho que não se ente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420e"/>
                </a:solidFill>
                <a:latin typeface="Arial"/>
              </a:rPr>
              <a:t>Oh! Primaveras distantes, depois do branco e deserto inverno, quando as amendoeiras inauguram suas flores, alegremente, e todos os olhos procuram pelo céu o primeiro raio de s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b8ff"/>
                </a:solidFill>
                <a:latin typeface="Arial"/>
              </a:rPr>
              <a:t>Esta é uma primavera diferente, com as matas intactas, as árvores cobertas de folhas, — e só os poetas, entre os humanos, sabem que uma Deusa chega, coroada de flores, com vestidos bordados de flores, com os braços carregados de flores, e vem dançar neste mundo cálido, de incessante lu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0000"/>
                </a:solidFill>
                <a:latin typeface="Arial"/>
              </a:rPr>
              <a:t>Mas é certo que a primavera chega. É certo que a vida não se esquece, e a terra maternalmente se enfeita para as festas da sua perpetu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0000"/>
                </a:solidFill>
                <a:latin typeface="Arial"/>
              </a:rPr>
              <a:t>Algum dia, talvez, nada mais vai ser assim. Algum dia, talvez, os homens terão a primavera que desejarem, no momento que quiserem, independentes deste ritmo, desta ordem, deste movimento do céu. E os pássaros serão outros, com outros cantos e outros hábitos, — e os ouvidos que por acaso os ouvirem não terão nada mais com tudo aquilo que, outrora se entendeu e am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e6e6e6"/>
                </a:solidFill>
                <a:latin typeface="Arial"/>
              </a:rPr>
              <a:t>Enquanto há primavera, esta primavera natural, prestemos atenção ao sussurro dos passarinhos novos, que dão beijinhos para o ar azul. Escutemos estas vozes que andam nas árvores, caminhemos por estas estradas que ainda conservam seus sentimentos antigos: lentamente estão sendo tecidos os manacás roxos e brancos; e a eufórbia se vai tornando pulquérrima, em cada coroa vermelha que desdobra. Os casulos brancos das gardênias ainda estão sendo enrolados em redor do perfume. E flores agrestes acordam com suas roupas de chita multic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23ff23"/>
                </a:solidFill>
                <a:latin typeface="Arial"/>
              </a:rPr>
              <a:t>Tudo isto para brilhar um instante, apenas, para ser lançado ao vento, — por fidelidade à obscura semente, ao que vem, na rotação da eternidade. Saudemos a primavera, dona da vida — e efê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01:07Z</dcterms:created>
  <dc:creator/>
  <dc:description/>
  <dc:language>en-US</dc:language>
  <cp:lastModifiedBy/>
  <cp:revision>1</cp:revision>
  <dc:subject/>
  <dc:title/>
</cp:coreProperties>
</file>